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4730-0CEF-4C9D-8662-5089D5A4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1BB-8F2A-4818-840A-1F5DF31A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354-9CC5-49B0-9429-E321E04F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5A3F-80A2-4DE7-A626-B4974591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55DF-0A8E-4F58-80F7-4E03E510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30A-6577-48C2-ADEB-FED707E6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6C2-904F-4DAF-837A-D35E8FFE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CF22-1B72-4891-870A-B5CD63A1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730520"/>
            <a:ext cx="9623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0655-AE7B-462B-869E-D5191C13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3F0-7532-4E3F-9549-1F9B21A5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7BD-66EE-4352-AC3A-B963A69E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FB27-E9A5-4C79-8EFB-C152C01B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79000"/>
          </a:bodyPr>
          <a:p>
            <a:pPr marL="911520" indent="-9115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976400" indent="-75996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3041280" indent="-6080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4257720" indent="-6080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40044600"/>
            <a:ext cx="338760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A37D220E-B926-42E3-9387-53C76BE248E1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idol_cake_B.jpg"/>
          <p:cNvPicPr/>
          <p:nvPr/>
        </p:nvPicPr>
        <p:blipFill>
          <a:blip r:embed="rId1"/>
          <a:stretch/>
        </p:blipFill>
        <p:spPr>
          <a:xfrm>
            <a:off x="0" y="3240"/>
            <a:ext cx="10693440" cy="43198920"/>
          </a:xfrm>
          <a:prstGeom prst="rect">
            <a:avLst/>
          </a:prstGeom>
          <a:ln w="0">
            <a:noFill/>
          </a:ln>
        </p:spPr>
      </p:pic>
      <p:sp>
        <p:nvSpPr>
          <p:cNvPr id="42" name="テキスト ボックス 21"/>
          <p:cNvSpPr/>
          <p:nvPr/>
        </p:nvSpPr>
        <p:spPr>
          <a:xfrm>
            <a:off x="212040" y="1224000"/>
            <a:ext cx="4874400" cy="39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308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Delicious cakes</a:t>
            </a:r>
            <a:endParaRPr b="0" lang="en-US" sz="30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3:52:28Z</dcterms:created>
  <dc:creator>seisaku</dc:creator>
  <dc:description/>
  <dc:language>en-US</dc:language>
  <cp:lastModifiedBy>seisaku</cp:lastModifiedBy>
  <dcterms:modified xsi:type="dcterms:W3CDTF">2012-05-15T03:57:44Z</dcterms:modified>
  <cp:revision>2</cp:revision>
  <dc:subject/>
  <dc:title>スライド 1</dc:title>
</cp:coreProperties>
</file>